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49.png" ContentType="image/png"/>
  <Override PartName="/ppt/media/image21.wmf" ContentType="image/x-wmf"/>
  <Override PartName="/ppt/media/image6.jpeg" ContentType="image/jpeg"/>
  <Override PartName="/ppt/media/image19.wmf" ContentType="image/x-wmf"/>
  <Override PartName="/ppt/media/image17.jpeg" ContentType="image/jpeg"/>
  <Override PartName="/ppt/media/image16.png" ContentType="image/png"/>
  <Override PartName="/ppt/media/image22.jpeg" ContentType="image/jpeg"/>
  <Override PartName="/ppt/media/image42.wmf" ContentType="image/x-wmf"/>
  <Override PartName="/ppt/media/image15.wmf" ContentType="image/x-wmf"/>
  <Override PartName="/ppt/media/image14.jpeg" ContentType="image/jpeg"/>
  <Override PartName="/ppt/media/image1.png" ContentType="image/png"/>
  <Override PartName="/ppt/media/image29.wmf" ContentType="image/x-wmf"/>
  <Override PartName="/ppt/media/image3.wmf" ContentType="image/x-wmf"/>
  <Override PartName="/ppt/media/image7.gif" ContentType="image/gif"/>
  <Override PartName="/ppt/media/image28.png" ContentType="image/png"/>
  <Override PartName="/ppt/media/image8.jpeg" ContentType="image/jpeg"/>
  <Override PartName="/ppt/media/image41.wmf" ContentType="image/x-wmf"/>
  <Override PartName="/ppt/media/image13.jpeg" ContentType="image/jpeg"/>
  <Override PartName="/ppt/media/image4.wmf" ContentType="image/x-wmf"/>
  <Override PartName="/ppt/media/image32.wmf" ContentType="image/x-wmf"/>
  <Override PartName="/ppt/media/image30.jpeg" ContentType="image/jpeg"/>
  <Override PartName="/ppt/media/image37.wmf" ContentType="image/x-wmf"/>
  <Override PartName="/ppt/media/image33.jpeg" ContentType="image/jpeg"/>
  <Override PartName="/ppt/media/image27.jpeg" ContentType="image/jpeg"/>
  <Override PartName="/ppt/media/image34.jpeg" ContentType="image/jpeg"/>
  <Override PartName="/ppt/media/image40.wmf" ContentType="image/x-wmf"/>
  <Override PartName="/ppt/media/image38.wmf" ContentType="image/x-wmf"/>
  <Override PartName="/ppt/media/image47.png" ContentType="image/png"/>
  <Override PartName="/ppt/media/image3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wmf" ContentType="image/x-wmf"/>
  <Override PartName="/ppt/media/image11.png" ContentType="image/png"/>
  <Override PartName="/ppt/media/image31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48.wmf" ContentType="image/x-wmf"/>
  <Override PartName="/ppt/media/image50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18.wmf" ContentType="image/x-wmf"/>
  <Override PartName="/ppt/media/image36.jpeg" ContentType="image/jpeg"/>
  <Override PartName="/ppt/media/image12.wmf" ContentType="image/x-wmf"/>
  <Override PartName="/ppt/media/image39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fo should be moved to the slide prior to the audience consideration near the beginning of th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o production s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believe this slide should come after the pre-production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urther down to the produc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at In-camera editing is a good exercise to make the presentation more interactive.  I think it works well in the “production” section of a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could be added here, with little or no text.  We probably should put this info into a hand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D3AC-4A98-4EDB-B803-B28C0FEB3F7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ouldn’t get the video to play in the slide sh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120F-43F7-4892-BBD8-DEA71F41B5E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a hyperl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EEF7-5A5D-4772-932E-9CCB49A68D9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3A99-6F4B-4DF1-AF72-00EE9A89AD7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A860-570B-4544-BCF6-02201954ED6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D7A3-7ADB-43E0-B1C8-CD97C809F63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clips could be added here, with little or no text.  We probably should put this info into a hand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this info should either be placed at the end with the moviemaker t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www.ket.org/education/video-mm-resources.htm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teachertube.com/viewVideo.php?video_id=1205&amp;title=Stickleback_Fish_Fossils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" Target="slide3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aching Science Through Media P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Picture 13" descr="Object_033"/>
          <p:cNvPicPr/>
          <p:nvPr/>
        </p:nvPicPr>
        <p:blipFill>
          <a:blip r:embed="rId1">
            <a:lum contrast="24000"/>
          </a:blip>
          <a:stretch/>
        </p:blipFill>
        <p:spPr>
          <a:xfrm rot="765000">
            <a:off x="5216040" y="2022480"/>
            <a:ext cx="2917800" cy="202392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16"/>
          <p:cNvSpPr/>
          <p:nvPr/>
        </p:nvSpPr>
        <p:spPr>
          <a:xfrm>
            <a:off x="3276720" y="4114800"/>
            <a:ext cx="3200400" cy="533520"/>
          </a:xfrm>
          <a:custGeom>
            <a:avLst/>
            <a:gdLst>
              <a:gd name="textAreaLeft" fmla="*/ 559800 w 3200400"/>
              <a:gd name="textAreaRight" fmla="*/ 2320200 w 32004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7"/>
          <p:cNvSpPr/>
          <p:nvPr/>
        </p:nvSpPr>
        <p:spPr>
          <a:xfrm flipH="1" flipV="1">
            <a:off x="2971800" y="1675800"/>
            <a:ext cx="3200400" cy="533160"/>
          </a:xfrm>
          <a:custGeom>
            <a:avLst/>
            <a:gdLst>
              <a:gd name="textAreaLeft" fmla="*/ 559800 w 3200400"/>
              <a:gd name="textAreaRight" fmla="*/ 2320200 w 32004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21"/>
          <p:cNvSpPr txBox="1"/>
          <p:nvPr/>
        </p:nvSpPr>
        <p:spPr>
          <a:xfrm>
            <a:off x="990720" y="533520"/>
            <a:ext cx="7238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76320" y="228600"/>
            <a:ext cx="899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ultimedia Production With a Scientific Fla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C:\Documents and Settings\lmoore\Local Settings\Temporary Internet Files\Content.IE5\TDC9POB2\MCj03108360000[1].wmf"/>
          <p:cNvPicPr/>
          <p:nvPr/>
        </p:nvPicPr>
        <p:blipFill>
          <a:blip r:embed="rId4"/>
          <a:stretch/>
        </p:blipFill>
        <p:spPr>
          <a:xfrm rot="20823000">
            <a:off x="2425320" y="2068560"/>
            <a:ext cx="1685880" cy="19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556236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e-Produc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2819160"/>
            <a:ext cx="8839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media production starts with  WRI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a producers must determine both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rpos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udien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any media th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5" descr="C:\Documents and Settings\lmoore\Local Settings\Temporary Internet Files\Content.IE5\ULJNENOG\MCj03968440000[1].wmf"/>
          <p:cNvPicPr/>
          <p:nvPr/>
        </p:nvPicPr>
        <p:blipFill>
          <a:blip r:embed="rId1"/>
          <a:stretch/>
        </p:blipFill>
        <p:spPr>
          <a:xfrm>
            <a:off x="5410080" y="533520"/>
            <a:ext cx="289584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-Production Proc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04480" y="17524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audience/obj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scripts/story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iew prep/sche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s/a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/prop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s/graphics/website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4" descr="bd05012_"/>
          <p:cNvPicPr/>
          <p:nvPr/>
        </p:nvPicPr>
        <p:blipFill>
          <a:blip r:embed="rId1"/>
          <a:stretch/>
        </p:blipFill>
        <p:spPr>
          <a:xfrm>
            <a:off x="6324480" y="3276720"/>
            <a:ext cx="19544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t’s All About the Audi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62485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ers  target speci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udienc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vario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ions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kgrou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/grad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ts /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17" descr="C:\Documents and Settings\lmoore\Local Settings\Temporary Internet Files\Content.IE5\MKWC3OU3\MPj04395640000[1].jpg"/>
          <p:cNvPicPr/>
          <p:nvPr/>
        </p:nvPicPr>
        <p:blipFill>
          <a:blip r:embed="rId1"/>
          <a:stretch/>
        </p:blipFill>
        <p:spPr>
          <a:xfrm>
            <a:off x="5816520" y="1523880"/>
            <a:ext cx="2946600" cy="1981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0" descr="C:\Documents and Settings\lmoore\Local Settings\Temporary Internet Files\Content.IE5\ULJNENOG\MPj04393970000[1].jpg"/>
          <p:cNvPicPr/>
          <p:nvPr/>
        </p:nvPicPr>
        <p:blipFill>
          <a:blip r:embed="rId2"/>
          <a:stretch/>
        </p:blipFill>
        <p:spPr>
          <a:xfrm>
            <a:off x="5105520" y="4038480"/>
            <a:ext cx="377028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your purpose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2437920"/>
            <a:ext cx="56386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487440" indent="-487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/ tea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terta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su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-4874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ress a point of 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87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11" descr="MCj02502660000[1]"/>
          <p:cNvPicPr/>
          <p:nvPr/>
        </p:nvPicPr>
        <p:blipFill>
          <a:blip r:embed="rId1"/>
          <a:stretch/>
        </p:blipFill>
        <p:spPr>
          <a:xfrm>
            <a:off x="5943600" y="914400"/>
            <a:ext cx="29685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97" name="Rounded Rectangle 8"/>
          <p:cNvGrpSpPr/>
          <p:nvPr/>
        </p:nvGrpSpPr>
        <p:grpSpPr>
          <a:xfrm>
            <a:off x="5791320" y="3657600"/>
            <a:ext cx="3193920" cy="2657520"/>
            <a:chOff x="5791320" y="3657600"/>
            <a:chExt cx="3193920" cy="2657520"/>
          </a:xfrm>
        </p:grpSpPr>
        <p:pic>
          <p:nvPicPr>
            <p:cNvPr id="9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5791320" y="3657600"/>
              <a:ext cx="319392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989680" y="3855960"/>
              <a:ext cx="2803320" cy="22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" name="Picture 11" descr="C:\Documents and Settings\lmoore\Local Settings\Temporary Internet Files\Content.IE5\TDC9POB2\MPj04371850000[1].jpg"/>
          <p:cNvPicPr/>
          <p:nvPr/>
        </p:nvPicPr>
        <p:blipFill>
          <a:blip r:embed="rId3"/>
          <a:stretch/>
        </p:blipFill>
        <p:spPr>
          <a:xfrm>
            <a:off x="6095880" y="3886200"/>
            <a:ext cx="259092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61722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cript Writing Proces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Picture 7" descr="bd05012_"/>
          <p:cNvPicPr/>
          <p:nvPr/>
        </p:nvPicPr>
        <p:blipFill>
          <a:blip r:embed="rId1"/>
          <a:stretch/>
        </p:blipFill>
        <p:spPr>
          <a:xfrm>
            <a:off x="6477120" y="4495680"/>
            <a:ext cx="2000160" cy="1749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228600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ent Out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af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6520" y="228240"/>
            <a:ext cx="38862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cript Exampl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.  Shot -of school exteri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d. Shot- Student host pointing at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ild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S. Shot – Student walks through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d. 2 shot- Host and school dire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U- Director’s face as he is talk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. Shot- Scriptwriter’s office with  her at her compu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0240" y="137160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.O- Welcome to the ACME School of Produ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t’s go inside and take a tour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sic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school’s director, Mr. Do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are you going to show us today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ll I thought we would start by talking with our scriptwriter, Ms. Smith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rector – Well hello Ms. Smith! We    have a visitor with us, Mr. Ho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4495680" y="1828800"/>
            <a:ext cx="0" cy="4724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bd05012_"/>
          <p:cNvPicPr/>
          <p:nvPr/>
        </p:nvPicPr>
        <p:blipFill>
          <a:blip r:embed="rId1"/>
          <a:stretch/>
        </p:blipFill>
        <p:spPr>
          <a:xfrm>
            <a:off x="6991200" y="-76320"/>
            <a:ext cx="20005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0" y="457200"/>
            <a:ext cx="51436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mple Storyboar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Picture 3" descr="hm00163_"/>
          <p:cNvPicPr/>
          <p:nvPr/>
        </p:nvPicPr>
        <p:blipFill>
          <a:blip r:embed="rId1"/>
          <a:stretch/>
        </p:blipFill>
        <p:spPr>
          <a:xfrm>
            <a:off x="3276720" y="2133720"/>
            <a:ext cx="2514600" cy="1776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m00363_"/>
          <p:cNvPicPr/>
          <p:nvPr/>
        </p:nvPicPr>
        <p:blipFill>
          <a:blip r:embed="rId2"/>
          <a:stretch/>
        </p:blipFill>
        <p:spPr>
          <a:xfrm>
            <a:off x="6324480" y="1981080"/>
            <a:ext cx="2125800" cy="2133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pe02661_"/>
          <p:cNvPicPr/>
          <p:nvPr/>
        </p:nvPicPr>
        <p:blipFill>
          <a:blip r:embed="rId3"/>
          <a:stretch/>
        </p:blipFill>
        <p:spPr>
          <a:xfrm>
            <a:off x="609480" y="1828800"/>
            <a:ext cx="2229120" cy="2514600"/>
          </a:xfrm>
          <a:prstGeom prst="rect">
            <a:avLst/>
          </a:prstGeom>
          <a:ln w="0">
            <a:noFill/>
          </a:ln>
        </p:spPr>
      </p:pic>
      <p:sp>
        <p:nvSpPr>
          <p:cNvPr id="114" name="Line 6"/>
          <p:cNvSpPr/>
          <p:nvPr/>
        </p:nvSpPr>
        <p:spPr>
          <a:xfrm>
            <a:off x="457200" y="1676520"/>
            <a:ext cx="8305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457200" y="1676520"/>
            <a:ext cx="0" cy="297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457200" y="4648320"/>
            <a:ext cx="8305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763120" y="1676520"/>
            <a:ext cx="0" cy="297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3048120" y="1676520"/>
            <a:ext cx="0" cy="297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6172200" y="1676520"/>
            <a:ext cx="0" cy="297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4"/>
          <p:cNvSpPr/>
          <p:nvPr/>
        </p:nvSpPr>
        <p:spPr>
          <a:xfrm>
            <a:off x="457200" y="4724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veterinarian will take a blood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3276720" y="4724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will use a special needle to take the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6477120" y="47242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will check the sample under a micro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28"/>
          <p:cNvSpPr/>
          <p:nvPr/>
        </p:nvSpPr>
        <p:spPr>
          <a:xfrm>
            <a:off x="457200" y="4648320"/>
            <a:ext cx="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457200" y="5715000"/>
            <a:ext cx="8305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8763120" y="4648320"/>
            <a:ext cx="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3048120" y="4648320"/>
            <a:ext cx="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6172200" y="4648320"/>
            <a:ext cx="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5220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hot Abbrevi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CU) Extreme Close-up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U)   Close-up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ed) Medium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S)  Wide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OV) Point of View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ST) Establishing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MCj03632320000[1]"/>
          <p:cNvPicPr/>
          <p:nvPr/>
        </p:nvPicPr>
        <p:blipFill>
          <a:blip r:embed="rId1"/>
          <a:stretch/>
        </p:blipFill>
        <p:spPr>
          <a:xfrm>
            <a:off x="6172200" y="3657600"/>
            <a:ext cx="250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1800" y="60912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2666520"/>
            <a:ext cx="77914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hearse, record, and perform sce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ot B-ro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ture audio/natural s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/label video/audio clip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Camera graphic"/>
          <p:cNvPicPr/>
          <p:nvPr/>
        </p:nvPicPr>
        <p:blipFill>
          <a:blip r:embed="rId1"/>
          <a:stretch/>
        </p:blipFill>
        <p:spPr>
          <a:xfrm>
            <a:off x="6400800" y="3809880"/>
            <a:ext cx="16002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mera Ti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819160"/>
            <a:ext cx="779148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 tri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focus and white balance contro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 camera moves (blocking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 shots and moves with purpo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MPj03875510000[1]"/>
          <p:cNvPicPr/>
          <p:nvPr/>
        </p:nvPicPr>
        <p:blipFill>
          <a:blip r:embed="rId1"/>
          <a:stretch/>
        </p:blipFill>
        <p:spPr>
          <a:xfrm>
            <a:off x="5257800" y="579600"/>
            <a:ext cx="15987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Resources in Multimedia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duc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9" name="Picture 8" descr="MCj03661120000[1]"/>
          <p:cNvPicPr/>
          <p:nvPr/>
        </p:nvPicPr>
        <p:blipFill>
          <a:blip r:embed="rId1"/>
          <a:stretch/>
        </p:blipFill>
        <p:spPr>
          <a:xfrm>
            <a:off x="6858000" y="304920"/>
            <a:ext cx="1952640" cy="1541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28600" y="1981080"/>
            <a:ext cx="8534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KET Education Consultant  (AT&amp;T gra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-Media Professional Development Event July 14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T Video Multimedia Resource Site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ttp://www.ket.org/education/video-mm-resource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T School Video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ideo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ing News Qui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llywood Home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ing Grimm Mov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rious KET EncycloMedia videos and material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e.g.)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FI’s Lights Camera Education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ction Button: Custom 4">
            <a:hlinkClick r:id="rId2"/>
          </p:cNvPr>
          <p:cNvSpPr/>
          <p:nvPr/>
        </p:nvSpPr>
        <p:spPr>
          <a:xfrm>
            <a:off x="457200" y="3124080"/>
            <a:ext cx="7924680" cy="381240"/>
          </a:xfrm>
          <a:custGeom>
            <a:avLst/>
            <a:gdLst>
              <a:gd name="textAreaLeft" fmla="*/ 24480 w 7924680"/>
              <a:gd name="textAreaRight" fmla="*/ 7900200 w 7924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48587" h="21600">
                <a:moveTo>
                  <a:pt x="0" y="0"/>
                </a:moveTo>
                <a:lnTo>
                  <a:pt x="448587" y="0"/>
                </a:lnTo>
                <a:lnTo>
                  <a:pt x="448587" y="21600"/>
                </a:lnTo>
                <a:lnTo>
                  <a:pt x="0" y="21600"/>
                </a:lnTo>
                <a:close/>
              </a:path>
              <a:path fill="lightenLess" w="448587" h="21600">
                <a:moveTo>
                  <a:pt x="0" y="0"/>
                </a:moveTo>
                <a:lnTo>
                  <a:pt x="448587" y="0"/>
                </a:lnTo>
                <a:lnTo>
                  <a:pt x="447187" y="1400"/>
                </a:lnTo>
                <a:lnTo>
                  <a:pt x="1400" y="1400"/>
                </a:lnTo>
                <a:close/>
              </a:path>
              <a:path fill="darken" w="448587" h="21600">
                <a:moveTo>
                  <a:pt x="448587" y="0"/>
                </a:moveTo>
                <a:lnTo>
                  <a:pt x="448587" y="21600"/>
                </a:lnTo>
                <a:lnTo>
                  <a:pt x="447187" y="20200"/>
                </a:lnTo>
                <a:lnTo>
                  <a:pt x="447187" y="1400"/>
                </a:lnTo>
                <a:close/>
              </a:path>
              <a:path fill="darkenLess" w="448587" h="21600">
                <a:moveTo>
                  <a:pt x="4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187" y="20200"/>
                </a:lnTo>
                <a:close/>
              </a:path>
              <a:path fill="lighten" w="4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ction Button: Custom 7"/>
          <p:cNvSpPr/>
          <p:nvPr/>
        </p:nvSpPr>
        <p:spPr>
          <a:xfrm>
            <a:off x="457200" y="6019920"/>
            <a:ext cx="6095880" cy="457200"/>
          </a:xfrm>
          <a:custGeom>
            <a:avLst/>
            <a:gdLst>
              <a:gd name="textAreaLeft" fmla="*/ 29520 w 6095880"/>
              <a:gd name="textAreaRight" fmla="*/ 6066360 w 6095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785" h="21600">
                <a:moveTo>
                  <a:pt x="0" y="0"/>
                </a:moveTo>
                <a:lnTo>
                  <a:pt x="287785" y="0"/>
                </a:lnTo>
                <a:lnTo>
                  <a:pt x="287785" y="21600"/>
                </a:lnTo>
                <a:lnTo>
                  <a:pt x="0" y="21600"/>
                </a:lnTo>
                <a:close/>
              </a:path>
              <a:path fill="lightenLess" w="287785" h="21600">
                <a:moveTo>
                  <a:pt x="0" y="0"/>
                </a:moveTo>
                <a:lnTo>
                  <a:pt x="287785" y="0"/>
                </a:lnTo>
                <a:lnTo>
                  <a:pt x="286385" y="1400"/>
                </a:lnTo>
                <a:lnTo>
                  <a:pt x="1400" y="1400"/>
                </a:lnTo>
                <a:close/>
              </a:path>
              <a:path fill="darken" w="287785" h="21600">
                <a:moveTo>
                  <a:pt x="287785" y="0"/>
                </a:moveTo>
                <a:lnTo>
                  <a:pt x="287785" y="21600"/>
                </a:lnTo>
                <a:lnTo>
                  <a:pt x="286385" y="20200"/>
                </a:lnTo>
                <a:lnTo>
                  <a:pt x="286385" y="1400"/>
                </a:lnTo>
                <a:close/>
              </a:path>
              <a:path fill="darkenLess" w="287785" h="21600">
                <a:moveTo>
                  <a:pt x="287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385" y="20200"/>
                </a:lnTo>
                <a:close/>
              </a:path>
              <a:path fill="lighten" w="287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4648320"/>
            <a:ext cx="8991720" cy="56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n’t do This! The “witness Protection” sho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54097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shooting don’t place your subject in front of a strong light like a window, lamp, mirror, etc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Placeholder 8" descr="wrong backlighting ex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re Camera Ti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y sho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overuse zoo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y down pre- and post-ro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roll-back (only on tape camera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MPj03164370000[1]"/>
          <p:cNvPicPr/>
          <p:nvPr/>
        </p:nvPicPr>
        <p:blipFill>
          <a:blip r:embed="rId1"/>
          <a:stretch/>
        </p:blipFill>
        <p:spPr>
          <a:xfrm>
            <a:off x="5638680" y="1638360"/>
            <a:ext cx="25894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380880" y="380880"/>
            <a:ext cx="53341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Shots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5228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se-up (C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5791320" y="5257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de Shot  (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2209680" y="4648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um Shot (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4" descr="close up"/>
          <p:cNvPicPr/>
          <p:nvPr/>
        </p:nvPicPr>
        <p:blipFill>
          <a:blip r:embed="rId1"/>
          <a:stretch/>
        </p:blipFill>
        <p:spPr>
          <a:xfrm>
            <a:off x="228600" y="2286000"/>
            <a:ext cx="1968480" cy="1803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medium"/>
          <p:cNvPicPr/>
          <p:nvPr/>
        </p:nvPicPr>
        <p:blipFill>
          <a:blip r:embed="rId2"/>
          <a:stretch/>
        </p:blipFill>
        <p:spPr>
          <a:xfrm>
            <a:off x="2362320" y="1828800"/>
            <a:ext cx="2914560" cy="2819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wide"/>
          <p:cNvPicPr/>
          <p:nvPr/>
        </p:nvPicPr>
        <p:blipFill>
          <a:blip r:embed="rId3"/>
          <a:stretch/>
        </p:blipFill>
        <p:spPr>
          <a:xfrm>
            <a:off x="5410080" y="1523880"/>
            <a:ext cx="3581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fferent Interviews/ Different Techniqu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3505320" y="6324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Louisville Zoo Ferret.wmv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458200" cy="5200560"/>
          </a:xfrm>
          <a:prstGeom prst="rect">
            <a:avLst/>
          </a:prstGeom>
          <a:ln w="0">
            <a:noFill/>
          </a:ln>
        </p:spPr>
      </p:pic>
      <p:sp>
        <p:nvSpPr>
          <p:cNvPr id="153" name="Action Button: Custom 10"/>
          <p:cNvSpPr/>
          <p:nvPr/>
        </p:nvSpPr>
        <p:spPr>
          <a:xfrm>
            <a:off x="3429000" y="6248520"/>
            <a:ext cx="1828800" cy="53316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4055" h="21600">
                <a:moveTo>
                  <a:pt x="0" y="0"/>
                </a:moveTo>
                <a:lnTo>
                  <a:pt x="74055" y="0"/>
                </a:lnTo>
                <a:lnTo>
                  <a:pt x="74055" y="21600"/>
                </a:lnTo>
                <a:lnTo>
                  <a:pt x="0" y="21600"/>
                </a:lnTo>
                <a:close/>
              </a:path>
              <a:path fill="lightenLess" w="74055" h="21600">
                <a:moveTo>
                  <a:pt x="0" y="0"/>
                </a:moveTo>
                <a:lnTo>
                  <a:pt x="74055" y="0"/>
                </a:lnTo>
                <a:lnTo>
                  <a:pt x="72655" y="1400"/>
                </a:lnTo>
                <a:lnTo>
                  <a:pt x="1400" y="1400"/>
                </a:lnTo>
                <a:close/>
              </a:path>
              <a:path fill="darken" w="74055" h="21600">
                <a:moveTo>
                  <a:pt x="74055" y="0"/>
                </a:moveTo>
                <a:lnTo>
                  <a:pt x="74055" y="21600"/>
                </a:lnTo>
                <a:lnTo>
                  <a:pt x="72655" y="20200"/>
                </a:lnTo>
                <a:lnTo>
                  <a:pt x="72655" y="1400"/>
                </a:lnTo>
                <a:close/>
              </a:path>
              <a:path fill="darkenLess" w="74055" h="21600">
                <a:moveTo>
                  <a:pt x="74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55" y="20200"/>
                </a:lnTo>
                <a:close/>
              </a:path>
              <a:path fill="lighten" w="74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47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fferent Interviews/ Different Techniqu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3429000" y="6319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oo Vet NeoNatal Exam.wmv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257800"/>
          </a:xfrm>
          <a:prstGeom prst="rect">
            <a:avLst/>
          </a:prstGeom>
          <a:ln w="0">
            <a:noFill/>
          </a:ln>
        </p:spPr>
      </p:pic>
      <p:sp>
        <p:nvSpPr>
          <p:cNvPr id="157" name="Action Button: Custom 4"/>
          <p:cNvSpPr/>
          <p:nvPr/>
        </p:nvSpPr>
        <p:spPr>
          <a:xfrm>
            <a:off x="3352680" y="6324480"/>
            <a:ext cx="1828800" cy="53352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4005" h="21600">
                <a:moveTo>
                  <a:pt x="0" y="0"/>
                </a:moveTo>
                <a:lnTo>
                  <a:pt x="74005" y="0"/>
                </a:lnTo>
                <a:lnTo>
                  <a:pt x="74005" y="21600"/>
                </a:lnTo>
                <a:lnTo>
                  <a:pt x="0" y="21600"/>
                </a:lnTo>
                <a:close/>
              </a:path>
              <a:path fill="lightenLess" w="74005" h="21600">
                <a:moveTo>
                  <a:pt x="0" y="0"/>
                </a:moveTo>
                <a:lnTo>
                  <a:pt x="74005" y="0"/>
                </a:lnTo>
                <a:lnTo>
                  <a:pt x="72605" y="1400"/>
                </a:lnTo>
                <a:lnTo>
                  <a:pt x="1400" y="1400"/>
                </a:lnTo>
                <a:close/>
              </a:path>
              <a:path fill="darken" w="74005" h="21600">
                <a:moveTo>
                  <a:pt x="74005" y="0"/>
                </a:moveTo>
                <a:lnTo>
                  <a:pt x="74005" y="21600"/>
                </a:lnTo>
                <a:lnTo>
                  <a:pt x="72605" y="20200"/>
                </a:lnTo>
                <a:lnTo>
                  <a:pt x="72605" y="1400"/>
                </a:lnTo>
                <a:close/>
              </a:path>
              <a:path fill="darkenLess" w="74005" h="21600">
                <a:moveTo>
                  <a:pt x="7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05" y="20200"/>
                </a:lnTo>
                <a:close/>
              </a:path>
              <a:path fill="lighten" w="7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47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hot Purpose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-up/Extreme CU- establish character’s appearance, emotions, point out details, isolates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um- create comfortable “talking” dist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- establish setting/show 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of View- allows viewer to understand character’s persp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en00613_"/>
          <p:cNvPicPr/>
          <p:nvPr/>
        </p:nvPicPr>
        <p:blipFill>
          <a:blip r:embed="rId1"/>
          <a:stretch/>
        </p:blipFill>
        <p:spPr>
          <a:xfrm>
            <a:off x="7086600" y="4800600"/>
            <a:ext cx="18907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5867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sing Angle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791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d’s Eye (high angle)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s appear weak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ulnerable/insignific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m’s Eye (low angle)-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s appear larger, powerful/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7" descr="C:\Documents and Settings\lmoore\Local Settings\Temporary Internet Files\Content.IE5\UJNTVHBM\MPj04069980000[1].jpg"/>
          <p:cNvPicPr/>
          <p:nvPr/>
        </p:nvPicPr>
        <p:blipFill>
          <a:blip r:embed="rId1"/>
          <a:stretch/>
        </p:blipFill>
        <p:spPr>
          <a:xfrm>
            <a:off x="5638680" y="380880"/>
            <a:ext cx="32022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6134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Arial"/>
              </a:rPr>
              <a:t>ZOOMING!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791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des attention throughout a sce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ABUSE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C:\Documents and Settings\lmoore\Local Settings\Temporary Internet Files\Content.IE5\ETDWHDW6\MPj04387550000[1].jpg"/>
          <p:cNvPicPr/>
          <p:nvPr/>
        </p:nvPicPr>
        <p:blipFill>
          <a:blip r:embed="rId1"/>
          <a:stretch/>
        </p:blipFill>
        <p:spPr>
          <a:xfrm>
            <a:off x="2743200" y="2666880"/>
            <a:ext cx="3733920" cy="2803680"/>
          </a:xfrm>
          <a:prstGeom prst="rect">
            <a:avLst/>
          </a:prstGeom>
          <a:ln w="0">
            <a:noFill/>
          </a:ln>
        </p:spPr>
      </p:pic>
      <p:sp>
        <p:nvSpPr>
          <p:cNvPr id="167" name="Right Arrow 7"/>
          <p:cNvSpPr/>
          <p:nvPr/>
        </p:nvSpPr>
        <p:spPr>
          <a:xfrm>
            <a:off x="5410080" y="380880"/>
            <a:ext cx="2743200" cy="8384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0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isual Storytelling Ti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791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itions (dissolves, cuts, comput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imation) connect shots and control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l Focus manipulates attention by changing focus from subjects in foreground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grou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4" descr="en00273_"/>
          <p:cNvPicPr/>
          <p:nvPr/>
        </p:nvPicPr>
        <p:blipFill>
          <a:blip r:embed="rId1"/>
          <a:stretch/>
        </p:blipFill>
        <p:spPr>
          <a:xfrm>
            <a:off x="6858000" y="4724280"/>
            <a:ext cx="14065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bject Facing Camera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2" name="Picture 3" descr="Mime"/>
          <p:cNvPicPr/>
          <p:nvPr/>
        </p:nvPicPr>
        <p:blipFill>
          <a:blip r:embed="rId1"/>
          <a:stretch/>
        </p:blipFill>
        <p:spPr>
          <a:xfrm>
            <a:off x="2209680" y="2209680"/>
            <a:ext cx="4572000" cy="3124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2209680" y="2209680"/>
            <a:ext cx="457200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080040" y="2479680"/>
            <a:ext cx="28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5257800" y="2438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ad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 flipH="1">
            <a:off x="4571640" y="26668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2209680" y="5257800"/>
            <a:ext cx="457200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2"/>
          <p:cNvSpPr/>
          <p:nvPr/>
        </p:nvSpPr>
        <p:spPr>
          <a:xfrm rot="5400000">
            <a:off x="5257080" y="3733560"/>
            <a:ext cx="335304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 rot="5400000">
            <a:off x="380520" y="3733920"/>
            <a:ext cx="3353040" cy="30456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043" descr="frame"/>
          <p:cNvPicPr/>
          <p:nvPr/>
        </p:nvPicPr>
        <p:blipFill>
          <a:blip r:embed="rId2"/>
          <a:stretch/>
        </p:blipFill>
        <p:spPr>
          <a:xfrm>
            <a:off x="2185920" y="2438280"/>
            <a:ext cx="4672080" cy="28958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26"/>
          <p:cNvSpPr/>
          <p:nvPr/>
        </p:nvSpPr>
        <p:spPr>
          <a:xfrm>
            <a:off x="762120" y="609480"/>
            <a:ext cx="807696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29"/>
          <p:cNvSpPr/>
          <p:nvPr/>
        </p:nvSpPr>
        <p:spPr>
          <a:xfrm>
            <a:off x="3124080" y="5562720"/>
            <a:ext cx="2971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"/>
              </a:rPr>
              <a:t>Center of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Rule of Thi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31"/>
          <p:cNvSpPr/>
          <p:nvPr/>
        </p:nvSpPr>
        <p:spPr>
          <a:xfrm flipH="1">
            <a:off x="2362320" y="579132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32"/>
          <p:cNvSpPr/>
          <p:nvPr/>
        </p:nvSpPr>
        <p:spPr>
          <a:xfrm>
            <a:off x="5715000" y="579132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33"/>
          <p:cNvSpPr/>
          <p:nvPr/>
        </p:nvSpPr>
        <p:spPr>
          <a:xfrm>
            <a:off x="2209680" y="2209680"/>
            <a:ext cx="45720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34"/>
          <p:cNvSpPr/>
          <p:nvPr/>
        </p:nvSpPr>
        <p:spPr>
          <a:xfrm>
            <a:off x="6019920" y="2362320"/>
            <a:ext cx="283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7"/>
          <p:cNvSpPr/>
          <p:nvPr/>
        </p:nvSpPr>
        <p:spPr>
          <a:xfrm>
            <a:off x="2209680" y="5257800"/>
            <a:ext cx="45720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38"/>
          <p:cNvSpPr/>
          <p:nvPr/>
        </p:nvSpPr>
        <p:spPr>
          <a:xfrm rot="5400000">
            <a:off x="5257080" y="3733560"/>
            <a:ext cx="335304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39"/>
          <p:cNvSpPr/>
          <p:nvPr/>
        </p:nvSpPr>
        <p:spPr>
          <a:xfrm rot="5400000">
            <a:off x="380520" y="3733920"/>
            <a:ext cx="3353040" cy="304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035"/>
          <p:cNvSpPr/>
          <p:nvPr/>
        </p:nvSpPr>
        <p:spPr>
          <a:xfrm>
            <a:off x="5943600" y="2362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"/>
              </a:rPr>
              <a:t>Head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36"/>
          <p:cNvSpPr/>
          <p:nvPr/>
        </p:nvSpPr>
        <p:spPr>
          <a:xfrm flipH="1">
            <a:off x="5409720" y="2590920"/>
            <a:ext cx="685800" cy="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Video production can be used in science instruction to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228600" y="1820880"/>
            <a:ext cx="8458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ord experiments/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reate video field journal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ord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monstrate scientific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ord intervie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C:\Documents and Settings\lmoore\Local Settings\Temporary Internet Files\Content.IE5\MKWC3OU3\MPj04387530000[1].jpg"/>
          <p:cNvPicPr/>
          <p:nvPr/>
        </p:nvPicPr>
        <p:blipFill>
          <a:blip r:embed="rId1"/>
          <a:stretch/>
        </p:blipFill>
        <p:spPr>
          <a:xfrm>
            <a:off x="7238880" y="4038480"/>
            <a:ext cx="16732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1295280" y="1828800"/>
            <a:ext cx="304920" cy="4343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523880" y="1828800"/>
            <a:ext cx="62485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523880" y="5867280"/>
            <a:ext cx="624852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7772400" y="1828800"/>
            <a:ext cx="304920" cy="4343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1" descr="leadway"/>
          <p:cNvPicPr/>
          <p:nvPr/>
        </p:nvPicPr>
        <p:blipFill>
          <a:blip r:embed="rId1"/>
          <a:stretch/>
        </p:blipFill>
        <p:spPr>
          <a:xfrm>
            <a:off x="1600200" y="2133720"/>
            <a:ext cx="6172200" cy="3733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2"/>
          <p:cNvSpPr/>
          <p:nvPr/>
        </p:nvSpPr>
        <p:spPr>
          <a:xfrm>
            <a:off x="6255000" y="249876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Sans"/>
              </a:rPr>
              <a:t>Head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3"/>
          <p:cNvSpPr/>
          <p:nvPr/>
        </p:nvSpPr>
        <p:spPr>
          <a:xfrm flipH="1" flipV="1">
            <a:off x="5790960" y="2361960"/>
            <a:ext cx="60948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2133720" y="50896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Lucida Sans"/>
              </a:rPr>
              <a:t>Lead 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9"/>
          <p:cNvSpPr/>
          <p:nvPr/>
        </p:nvSpPr>
        <p:spPr>
          <a:xfrm flipH="1">
            <a:off x="1676160" y="5257800"/>
            <a:ext cx="5331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"/>
          <p:cNvSpPr/>
          <p:nvPr/>
        </p:nvSpPr>
        <p:spPr>
          <a:xfrm flipH="1">
            <a:off x="3657600" y="5257800"/>
            <a:ext cx="533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1800" y="3045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Subject looking to one sid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6080040" y="2708280"/>
            <a:ext cx="154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0"/>
          <p:cNvSpPr/>
          <p:nvPr/>
        </p:nvSpPr>
        <p:spPr>
          <a:xfrm>
            <a:off x="1600200" y="3200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ing the Rule of Third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6" name="Picture 3" descr="WASH_005"/>
          <p:cNvPicPr/>
          <p:nvPr/>
        </p:nvPicPr>
        <p:blipFill>
          <a:blip r:embed="rId1"/>
          <a:stretch/>
        </p:blipFill>
        <p:spPr>
          <a:xfrm>
            <a:off x="1600200" y="1447920"/>
            <a:ext cx="6477120" cy="4184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07" name="Rectangle 4"/>
          <p:cNvSpPr/>
          <p:nvPr/>
        </p:nvSpPr>
        <p:spPr>
          <a:xfrm>
            <a:off x="1371600" y="1371600"/>
            <a:ext cx="30492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00200" y="137160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1600200" y="541008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848720" y="1371600"/>
            <a:ext cx="30456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6080040" y="2708280"/>
            <a:ext cx="154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1600200" y="3200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2"/>
          <p:cNvSpPr/>
          <p:nvPr/>
        </p:nvSpPr>
        <p:spPr>
          <a:xfrm>
            <a:off x="1371600" y="2819520"/>
            <a:ext cx="64771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3"/>
          <p:cNvSpPr/>
          <p:nvPr/>
        </p:nvSpPr>
        <p:spPr>
          <a:xfrm>
            <a:off x="1371600" y="4343400"/>
            <a:ext cx="64771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4"/>
          <p:cNvSpPr/>
          <p:nvPr/>
        </p:nvSpPr>
        <p:spPr>
          <a:xfrm>
            <a:off x="3505320" y="22096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5"/>
          <p:cNvSpPr/>
          <p:nvPr/>
        </p:nvSpPr>
        <p:spPr>
          <a:xfrm>
            <a:off x="3581280" y="1371600"/>
            <a:ext cx="0" cy="4038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5791320" y="1371600"/>
            <a:ext cx="0" cy="4038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380880" y="57913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most interesting part of subject where lines cross. Notice body and eyes lie along these lines instead of picture’s cen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0"/>
          <p:cNvSpPr/>
          <p:nvPr/>
        </p:nvSpPr>
        <p:spPr>
          <a:xfrm>
            <a:off x="1371600" y="1600200"/>
            <a:ext cx="60948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1676520" y="1219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                       2                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28440" y="685800"/>
            <a:ext cx="472428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Lucida Sans"/>
              </a:rPr>
              <a:t>Disappearing Ac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Lucida Sans"/>
              </a:rPr>
              <a:t>    (</a:t>
            </a:r>
            <a:r>
              <a:rPr b="1" lang="en-US" sz="2800" spc="-1" strike="noStrike">
                <a:solidFill>
                  <a:srgbClr val="ffff00"/>
                </a:solidFill>
                <a:latin typeface="Lucida Sans"/>
              </a:rPr>
              <a:t>In Camera Edit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986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Record (Push red button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Establish subject, subject free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Pause (Push red button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Change sce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Record (Push red button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Picture 1028" descr="pe01682_"/>
          <p:cNvPicPr/>
          <p:nvPr/>
        </p:nvPicPr>
        <p:blipFill>
          <a:blip r:embed="rId1"/>
          <a:stretch/>
        </p:blipFill>
        <p:spPr>
          <a:xfrm>
            <a:off x="6629400" y="228600"/>
            <a:ext cx="2286000" cy="22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50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mon Video Mistakes…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 much headroom - bad fra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 in front of bright back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y camera - no trip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hot variation - wide sh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fficient planning - no scri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pre- and post- ro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4" descr="MCj01047280000[1]"/>
          <p:cNvPicPr/>
          <p:nvPr/>
        </p:nvPicPr>
        <p:blipFill>
          <a:blip r:embed="rId1"/>
          <a:stretch/>
        </p:blipFill>
        <p:spPr>
          <a:xfrm>
            <a:off x="1828800" y="5867280"/>
            <a:ext cx="5410080" cy="5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dio Track Par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oice-ov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und effe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tural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4" descr="en00354_"/>
          <p:cNvPicPr/>
          <p:nvPr/>
        </p:nvPicPr>
        <p:blipFill>
          <a:blip r:embed="rId1"/>
          <a:stretch/>
        </p:blipFill>
        <p:spPr>
          <a:xfrm>
            <a:off x="4998960" y="4038480"/>
            <a:ext cx="3124440" cy="2446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bd06110_"/>
          <p:cNvPicPr/>
          <p:nvPr/>
        </p:nvPicPr>
        <p:blipFill>
          <a:blip r:embed="rId2"/>
          <a:stretch/>
        </p:blipFill>
        <p:spPr>
          <a:xfrm>
            <a:off x="6561000" y="343080"/>
            <a:ext cx="212580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285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dio Ti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66360" y="16002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 with headphon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microphones specific to project nee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ce mic correct distance from sou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using built-in mic move in, then zoom ou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 distracting background noi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4" descr="MCj02346130000[1]"/>
          <p:cNvPicPr/>
          <p:nvPr/>
        </p:nvPicPr>
        <p:blipFill>
          <a:blip r:embed="rId1"/>
          <a:stretch/>
        </p:blipFill>
        <p:spPr>
          <a:xfrm>
            <a:off x="7620120" y="76320"/>
            <a:ext cx="12952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506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mon Audio Mistakes….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only cam 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 too far from sound 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monitoring aud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Picture 4" descr="MCBD06727_0000[1]"/>
          <p:cNvPicPr/>
          <p:nvPr/>
        </p:nvPicPr>
        <p:blipFill>
          <a:blip r:embed="rId1"/>
          <a:stretch/>
        </p:blipFill>
        <p:spPr>
          <a:xfrm>
            <a:off x="6172200" y="4343400"/>
            <a:ext cx="236232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“Magic” of TV (Special Effects and Post Production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d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ph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ecial Effec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ke-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4" descr="pe01682_"/>
          <p:cNvPicPr/>
          <p:nvPr/>
        </p:nvPicPr>
        <p:blipFill>
          <a:blip r:embed="rId1"/>
          <a:stretch/>
        </p:blipFill>
        <p:spPr>
          <a:xfrm>
            <a:off x="5181480" y="1981080"/>
            <a:ext cx="3546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st-P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2437920"/>
            <a:ext cx="779148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lect pieces of video/audio are ordered and edited toge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graphics and effects are generated and ad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udio track is edited (sweetened) with sound effects, music, and natural sounds  and aligned to vide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4" descr="bd19706_"/>
          <p:cNvPicPr/>
          <p:nvPr/>
        </p:nvPicPr>
        <p:blipFill>
          <a:blip r:embed="rId1"/>
          <a:stretch/>
        </p:blipFill>
        <p:spPr>
          <a:xfrm>
            <a:off x="6408720" y="152280"/>
            <a:ext cx="2201760" cy="213372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5">
            <a:hlinkClick r:id="rId2" action="ppaction://hlinksldjump"/>
          </p:cNvPr>
          <p:cNvSpPr/>
          <p:nvPr/>
        </p:nvSpPr>
        <p:spPr>
          <a:xfrm>
            <a:off x="6400800" y="304920"/>
            <a:ext cx="2514600" cy="1828800"/>
          </a:xfrm>
          <a:custGeom>
            <a:avLst/>
            <a:gdLst>
              <a:gd name="textAreaLeft" fmla="*/ 118440 w 2514600"/>
              <a:gd name="textAreaRight" fmla="*/ 2396160 w 25146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9698" h="21600">
                <a:moveTo>
                  <a:pt x="0" y="0"/>
                </a:moveTo>
                <a:lnTo>
                  <a:pt x="29698" y="0"/>
                </a:lnTo>
                <a:lnTo>
                  <a:pt x="29698" y="21600"/>
                </a:lnTo>
                <a:lnTo>
                  <a:pt x="0" y="21600"/>
                </a:lnTo>
                <a:close/>
              </a:path>
              <a:path fill="lightenLess" w="29698" h="21600">
                <a:moveTo>
                  <a:pt x="0" y="0"/>
                </a:moveTo>
                <a:lnTo>
                  <a:pt x="29698" y="0"/>
                </a:lnTo>
                <a:lnTo>
                  <a:pt x="28298" y="1400"/>
                </a:lnTo>
                <a:lnTo>
                  <a:pt x="1400" y="1400"/>
                </a:lnTo>
                <a:close/>
              </a:path>
              <a:path fill="darken" w="29698" h="21600">
                <a:moveTo>
                  <a:pt x="29698" y="0"/>
                </a:moveTo>
                <a:lnTo>
                  <a:pt x="29698" y="21600"/>
                </a:lnTo>
                <a:lnTo>
                  <a:pt x="28298" y="20200"/>
                </a:lnTo>
                <a:lnTo>
                  <a:pt x="28298" y="1400"/>
                </a:lnTo>
                <a:close/>
              </a:path>
              <a:path fill="darkenLess" w="29698" h="21600">
                <a:moveTo>
                  <a:pt x="29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8" y="20200"/>
                </a:lnTo>
                <a:close/>
              </a:path>
              <a:path fill="lighten" w="29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8" descr="MPj03998790000[1]"/>
          <p:cNvPicPr/>
          <p:nvPr/>
        </p:nvPicPr>
        <p:blipFill>
          <a:blip r:embed="rId1"/>
          <a:stretch/>
        </p:blipFill>
        <p:spPr>
          <a:xfrm>
            <a:off x="6248520" y="1447920"/>
            <a:ext cx="2666880" cy="39988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677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diting: In-Camera/Non-Linear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Camera editing: Consecutive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/shoot  video us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rd/pause feature. Litt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ility for later rearrangement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Linear: shoot video/recor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o, upload to  computer,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ce into a timeline with edit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.  Allows for speci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s, graphics,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rrangement of video/audi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Video production can enhance science instruction by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228600" y="194616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reating a magnifying lens/microscope view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aring data, observations, experiences 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ltimedia technologie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monstrating abstract concepts with ed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ing EncycloMedia With Photo Story</a:t>
            </a: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10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11"/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12"/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13"/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AutoShape 14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5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16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8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2209680" y="2514600"/>
            <a:ext cx="6400800" cy="838080"/>
          </a:xfrm>
          <a:custGeom>
            <a:avLst/>
            <a:gdLst>
              <a:gd name="textAreaLeft" fmla="*/ 54000 w 6400800"/>
              <a:gd name="textAreaRight" fmla="*/ 6346800 w 6400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4908" h="21600">
                <a:moveTo>
                  <a:pt x="0" y="0"/>
                </a:moveTo>
                <a:lnTo>
                  <a:pt x="164908" y="0"/>
                </a:lnTo>
                <a:lnTo>
                  <a:pt x="164908" y="21600"/>
                </a:lnTo>
                <a:lnTo>
                  <a:pt x="0" y="21600"/>
                </a:lnTo>
                <a:close/>
              </a:path>
              <a:path fill="lightenLess" w="164908" h="21600">
                <a:moveTo>
                  <a:pt x="0" y="0"/>
                </a:moveTo>
                <a:lnTo>
                  <a:pt x="164908" y="0"/>
                </a:lnTo>
                <a:lnTo>
                  <a:pt x="163508" y="1400"/>
                </a:lnTo>
                <a:lnTo>
                  <a:pt x="1400" y="1400"/>
                </a:lnTo>
                <a:close/>
              </a:path>
              <a:path fill="darken" w="164908" h="21600">
                <a:moveTo>
                  <a:pt x="164908" y="0"/>
                </a:moveTo>
                <a:lnTo>
                  <a:pt x="164908" y="21600"/>
                </a:lnTo>
                <a:lnTo>
                  <a:pt x="163508" y="20200"/>
                </a:lnTo>
                <a:lnTo>
                  <a:pt x="163508" y="1400"/>
                </a:lnTo>
                <a:close/>
              </a:path>
              <a:path fill="darkenLess" w="164908" h="21600">
                <a:moveTo>
                  <a:pt x="1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508" y="20200"/>
                </a:lnTo>
                <a:close/>
              </a:path>
              <a:path fill="lighten" w="1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20"/>
          <p:cNvSpPr/>
          <p:nvPr/>
        </p:nvSpPr>
        <p:spPr>
          <a:xfrm>
            <a:off x="3048120" y="6172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he Rock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22" descr="C:\Documents and Settings\lmoore\Desktop\Workshops\Workshop Pres. Builder\workshop images\USGS Rock Cycle.jpg"/>
          <p:cNvPicPr/>
          <p:nvPr/>
        </p:nvPicPr>
        <p:blipFill>
          <a:blip r:embed="rId1"/>
          <a:stretch/>
        </p:blipFill>
        <p:spPr>
          <a:xfrm>
            <a:off x="1295280" y="1219320"/>
            <a:ext cx="6096240" cy="45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228600" y="152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Examples of Original Production Using EncycloMedia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04920" y="49528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ese short movies were created using “MovieMaker” to incorporate original video combined with Encyclomedia and cl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8" descr="Fossil Isotelus big"/>
          <p:cNvPicPr/>
          <p:nvPr/>
        </p:nvPicPr>
        <p:blipFill>
          <a:blip r:embed="rId1"/>
          <a:stretch/>
        </p:blipFill>
        <p:spPr>
          <a:xfrm>
            <a:off x="609480" y="1828800"/>
            <a:ext cx="3706920" cy="2666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C:\Documents and Settings\lmoore\Local Settings\Temporary Internet Files\Content.IE5\M55FIOIF\MCj03470350000[1].wmf"/>
          <p:cNvPicPr/>
          <p:nvPr/>
        </p:nvPicPr>
        <p:blipFill>
          <a:blip r:embed="rId2"/>
          <a:stretch/>
        </p:blipFill>
        <p:spPr>
          <a:xfrm>
            <a:off x="5181480" y="1828800"/>
            <a:ext cx="2667240" cy="26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5" descr="Encyclomedia-1"/>
          <p:cNvPicPr/>
          <p:nvPr/>
        </p:nvPicPr>
        <p:blipFill>
          <a:blip r:embed="rId1"/>
          <a:stretch/>
        </p:blipFill>
        <p:spPr>
          <a:xfrm>
            <a:off x="380880" y="228600"/>
            <a:ext cx="7696440" cy="15019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7"/>
          <p:cNvSpPr/>
          <p:nvPr/>
        </p:nvSpPr>
        <p:spPr>
          <a:xfrm>
            <a:off x="228600" y="2743200"/>
            <a:ext cx="883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5000 videos- 50,000 video segments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(estimated by Jan 200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155 of KET’s original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20,000 digital 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400 songs, 3000 sound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40 historic spee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Discovery Atlas Interactive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228600" y="2590920"/>
            <a:ext cx="8381880" cy="75960"/>
          </a:xfrm>
          <a:prstGeom prst="rect">
            <a:avLst/>
          </a:prstGeom>
          <a:solidFill>
            <a:srgbClr val="ffdd11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4"/>
          <p:cNvSpPr/>
          <p:nvPr/>
        </p:nvSpPr>
        <p:spPr>
          <a:xfrm>
            <a:off x="5867280" y="2133720"/>
            <a:ext cx="914400" cy="5331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9917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What Can be Used from Encylomedia </a:t>
            </a:r>
            <a:br>
              <a:rPr sz="32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n Your Edited productions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deo segments with the  Edit  ic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gital St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und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ngs (this are for elementary ag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ome KET Resource Integration Sites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TextBox 5"/>
          <p:cNvSpPr/>
          <p:nvPr/>
        </p:nvSpPr>
        <p:spPr>
          <a:xfrm>
            <a:off x="228600" y="990720"/>
            <a:ext cx="820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ssi Baker’s Blog and W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ww.missibket.blogspo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228600" y="1828800"/>
            <a:ext cx="71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ww.missibket.wikispace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ction Button: Custom 11"/>
          <p:cNvSpPr/>
          <p:nvPr/>
        </p:nvSpPr>
        <p:spPr>
          <a:xfrm>
            <a:off x="457200" y="3429000"/>
            <a:ext cx="6858000" cy="838080"/>
          </a:xfrm>
          <a:custGeom>
            <a:avLst/>
            <a:gdLst>
              <a:gd name="textAreaLeft" fmla="*/ 54000 w 6858000"/>
              <a:gd name="textAreaRight" fmla="*/ 6804000 w 6858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76686" h="21600">
                <a:moveTo>
                  <a:pt x="0" y="0"/>
                </a:moveTo>
                <a:lnTo>
                  <a:pt x="176686" y="0"/>
                </a:lnTo>
                <a:lnTo>
                  <a:pt x="176686" y="21600"/>
                </a:lnTo>
                <a:lnTo>
                  <a:pt x="0" y="21600"/>
                </a:lnTo>
                <a:close/>
              </a:path>
              <a:path fill="lightenLess" w="176686" h="21600">
                <a:moveTo>
                  <a:pt x="0" y="0"/>
                </a:moveTo>
                <a:lnTo>
                  <a:pt x="176686" y="0"/>
                </a:lnTo>
                <a:lnTo>
                  <a:pt x="175286" y="1400"/>
                </a:lnTo>
                <a:lnTo>
                  <a:pt x="1400" y="1400"/>
                </a:lnTo>
                <a:close/>
              </a:path>
              <a:path fill="darken" w="176686" h="21600">
                <a:moveTo>
                  <a:pt x="176686" y="0"/>
                </a:moveTo>
                <a:lnTo>
                  <a:pt x="176686" y="21600"/>
                </a:lnTo>
                <a:lnTo>
                  <a:pt x="175286" y="20200"/>
                </a:lnTo>
                <a:lnTo>
                  <a:pt x="175286" y="1400"/>
                </a:lnTo>
                <a:close/>
              </a:path>
              <a:path fill="darkenLess" w="176686" h="21600">
                <a:moveTo>
                  <a:pt x="1766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5286" y="20200"/>
                </a:lnTo>
                <a:close/>
              </a:path>
              <a:path fill="lighten" w="1766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7" descr="C:\Documents and Settings\lmoore\Local Settings\Temporary Internet Files\Content.IE5\2MW80HCS\MCj04280790000[1].wmf"/>
          <p:cNvPicPr/>
          <p:nvPr/>
        </p:nvPicPr>
        <p:blipFill>
          <a:blip r:embed="rId1"/>
          <a:stretch/>
        </p:blipFill>
        <p:spPr>
          <a:xfrm>
            <a:off x="6900840" y="990720"/>
            <a:ext cx="1541520" cy="1676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C:\Documents and Settings\lmoore\Local Settings\Temporary Internet Files\Content.IE5\6TSUDE06\MCj04315240000[1].png"/>
          <p:cNvPicPr/>
          <p:nvPr/>
        </p:nvPicPr>
        <p:blipFill>
          <a:blip r:embed="rId2"/>
          <a:stretch/>
        </p:blipFill>
        <p:spPr>
          <a:xfrm>
            <a:off x="6692760" y="5334120"/>
            <a:ext cx="2374920" cy="121896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2"/>
          <p:cNvSpPr/>
          <p:nvPr/>
        </p:nvSpPr>
        <p:spPr>
          <a:xfrm>
            <a:off x="304920" y="3770280"/>
            <a:ext cx="685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nthia Warner’s Wiki http://cwarnerket.wikidot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ction Button: Custom 13"/>
          <p:cNvSpPr/>
          <p:nvPr/>
        </p:nvSpPr>
        <p:spPr>
          <a:xfrm>
            <a:off x="3581280" y="5715000"/>
            <a:ext cx="5562720" cy="762120"/>
          </a:xfrm>
          <a:custGeom>
            <a:avLst/>
            <a:gdLst>
              <a:gd name="textAreaLeft" fmla="*/ 49320 w 5562720"/>
              <a:gd name="textAreaRight" fmla="*/ 5513400 w 5562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57594" h="21600">
                <a:moveTo>
                  <a:pt x="0" y="0"/>
                </a:moveTo>
                <a:lnTo>
                  <a:pt x="157594" y="0"/>
                </a:lnTo>
                <a:lnTo>
                  <a:pt x="157594" y="21600"/>
                </a:lnTo>
                <a:lnTo>
                  <a:pt x="0" y="21600"/>
                </a:lnTo>
                <a:close/>
              </a:path>
              <a:path fill="lightenLess" w="157594" h="21600">
                <a:moveTo>
                  <a:pt x="0" y="0"/>
                </a:moveTo>
                <a:lnTo>
                  <a:pt x="157594" y="0"/>
                </a:lnTo>
                <a:lnTo>
                  <a:pt x="156194" y="1400"/>
                </a:lnTo>
                <a:lnTo>
                  <a:pt x="1400" y="1400"/>
                </a:lnTo>
                <a:close/>
              </a:path>
              <a:path fill="darken" w="157594" h="21600">
                <a:moveTo>
                  <a:pt x="157594" y="0"/>
                </a:moveTo>
                <a:lnTo>
                  <a:pt x="157594" y="21600"/>
                </a:lnTo>
                <a:lnTo>
                  <a:pt x="156194" y="20200"/>
                </a:lnTo>
                <a:lnTo>
                  <a:pt x="156194" y="1400"/>
                </a:lnTo>
                <a:close/>
              </a:path>
              <a:path fill="darkenLess" w="157594" h="21600">
                <a:moveTo>
                  <a:pt x="157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194" y="20200"/>
                </a:lnTo>
                <a:close/>
              </a:path>
              <a:path fill="lighten" w="157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4"/>
          <p:cNvSpPr/>
          <p:nvPr/>
        </p:nvSpPr>
        <p:spPr>
          <a:xfrm>
            <a:off x="228600" y="26668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rry’s  Wiki http://lmooreketresources.wikispace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957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elevision Goes to School: The Impact of Video on Student Learning in Formal Education (Jan 2004). Provided by the Education Department Corporation for Public Broadcasting created by EDC’s Center for Children and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ogow, F. R. (1997). Don’t turn off the lights! Tips f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lassroom use of ITV. Insighters Educa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nsult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nger, J.L. &amp; Singer, D.G. (1983) Implications of childho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elevision viewing for cogni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magination, and emotion. In J. Bryant and D.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derson, (Eds.) (1983).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Children’s Understanding 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elevision: Research on attention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comprehension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ew York: Academic Pre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ardner, H. (1999.)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Intelligence reframed: Multi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intelligences for the 21st century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ew York: Bas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ook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ardner, H. (1993).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Multiple intelligences: The the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957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enter for International Education/University of Wisconsin- Created:  May 17, 2001- Updated: 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pyright © 2005- Robert J. Beck, Ph.D- All rights reserved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Discovery Education for access to KET EncycloMedia cl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0" y="4876560"/>
            <a:ext cx="906768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may use this PowerPoint in whole or in part but please cite KE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 the source!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6"/>
          <p:cNvSpPr/>
          <p:nvPr/>
        </p:nvSpPr>
        <p:spPr>
          <a:xfrm>
            <a:off x="228600" y="205740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ording observations for accurate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ing master shots with close-up cover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chieve detai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ng graphics to efficiently in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ing of a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C:\Documents and Settings\lmoore\Local Settings\Temporary Internet Files\Content.IE5\TDC9POB2\MCj03108360000[1].wmf"/>
          <p:cNvPicPr/>
          <p:nvPr/>
        </p:nvPicPr>
        <p:blipFill>
          <a:blip r:embed="rId1"/>
          <a:stretch/>
        </p:blipFill>
        <p:spPr>
          <a:xfrm flipH="1">
            <a:off x="7162560" y="4038480"/>
            <a:ext cx="865080" cy="1127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1360" y="380520"/>
            <a:ext cx="8896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diting software use further enhances the effectiveness of instruction by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diting software use can also help to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228600" y="177156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b-roll from experiments to m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objective(s) of a projec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segments from KET EFTs, 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ycloMedia into original classroom productio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all aspects of student scientific inquir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teacher-produced instructional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ials for independent use by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457200" y="220968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7320" y="0"/>
            <a:ext cx="8591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 Student Produced Video Exampl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2666880" y="6248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ickleback Fish Foss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ction Button: Custom 5"/>
          <p:cNvSpPr/>
          <p:nvPr/>
        </p:nvSpPr>
        <p:spPr>
          <a:xfrm>
            <a:off x="2666880" y="6324480"/>
            <a:ext cx="3200400" cy="304920"/>
          </a:xfrm>
          <a:custGeom>
            <a:avLst/>
            <a:gdLst>
              <a:gd name="textAreaLeft" fmla="*/ 19440 w 3200400"/>
              <a:gd name="textAreaRight" fmla="*/ 3180960 w 3200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26469" h="21600">
                <a:moveTo>
                  <a:pt x="0" y="0"/>
                </a:moveTo>
                <a:lnTo>
                  <a:pt x="226469" y="0"/>
                </a:lnTo>
                <a:lnTo>
                  <a:pt x="226469" y="21600"/>
                </a:lnTo>
                <a:lnTo>
                  <a:pt x="0" y="21600"/>
                </a:lnTo>
                <a:close/>
              </a:path>
              <a:path fill="lightenLess" w="226469" h="21600">
                <a:moveTo>
                  <a:pt x="0" y="0"/>
                </a:moveTo>
                <a:lnTo>
                  <a:pt x="226469" y="0"/>
                </a:lnTo>
                <a:lnTo>
                  <a:pt x="225069" y="1400"/>
                </a:lnTo>
                <a:lnTo>
                  <a:pt x="1400" y="1400"/>
                </a:lnTo>
                <a:close/>
              </a:path>
              <a:path fill="darken" w="226469" h="21600">
                <a:moveTo>
                  <a:pt x="226469" y="0"/>
                </a:moveTo>
                <a:lnTo>
                  <a:pt x="226469" y="21600"/>
                </a:lnTo>
                <a:lnTo>
                  <a:pt x="225069" y="20200"/>
                </a:lnTo>
                <a:lnTo>
                  <a:pt x="225069" y="1400"/>
                </a:lnTo>
                <a:close/>
              </a:path>
              <a:path fill="darkenLess" w="226469" h="21600">
                <a:moveTo>
                  <a:pt x="226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069" y="20200"/>
                </a:lnTo>
                <a:close/>
              </a:path>
              <a:path fill="lighten" w="226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sticklebac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066680"/>
            <a:ext cx="74678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e First Rule of Video Produc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6" descr="C:\Documents and Settings\lmoore\Local Settings\Temporary Internet Files\Content.IE5\L4KWLYM5\MMj02836230000[1].gif"/>
          <p:cNvPicPr/>
          <p:nvPr/>
        </p:nvPicPr>
        <p:blipFill>
          <a:blip r:embed="rId1"/>
          <a:stretch/>
        </p:blipFill>
        <p:spPr>
          <a:xfrm>
            <a:off x="6553080" y="2514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70" name="TextBox 9"/>
          <p:cNvSpPr/>
          <p:nvPr/>
        </p:nvSpPr>
        <p:spPr>
          <a:xfrm>
            <a:off x="609480" y="12193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matter how good your equipment, editing, and graphic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C:\Documents and Settings\lmoore\Local Settings\Temporary Internet Files\Content.IE5\L4KWLYM5\MMj02836230000[1].gif"/>
          <p:cNvPicPr/>
          <p:nvPr/>
        </p:nvPicPr>
        <p:blipFill>
          <a:blip r:embed="rId2"/>
          <a:stretch/>
        </p:blipFill>
        <p:spPr>
          <a:xfrm>
            <a:off x="152280" y="2514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MPj03998790000[1]"/>
          <p:cNvPicPr/>
          <p:nvPr/>
        </p:nvPicPr>
        <p:blipFill>
          <a:blip r:embed="rId3"/>
          <a:stretch/>
        </p:blipFill>
        <p:spPr>
          <a:xfrm>
            <a:off x="3429000" y="2286000"/>
            <a:ext cx="2209680" cy="2509920"/>
          </a:xfrm>
          <a:prstGeom prst="rect">
            <a:avLst/>
          </a:prstGeom>
          <a:ln w="0">
            <a:noFill/>
          </a:ln>
        </p:spPr>
      </p:pic>
      <p:sp>
        <p:nvSpPr>
          <p:cNvPr id="73" name="Right Arrow 21"/>
          <p:cNvSpPr/>
          <p:nvPr/>
        </p:nvSpPr>
        <p:spPr>
          <a:xfrm>
            <a:off x="2438280" y="3429000"/>
            <a:ext cx="7621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ight Arrow 24"/>
          <p:cNvSpPr/>
          <p:nvPr/>
        </p:nvSpPr>
        <p:spPr>
          <a:xfrm>
            <a:off x="5867280" y="3429000"/>
            <a:ext cx="7621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25"/>
          <p:cNvSpPr/>
          <p:nvPr/>
        </p:nvSpPr>
        <p:spPr>
          <a:xfrm>
            <a:off x="685800" y="4724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rbage In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6"/>
          <p:cNvSpPr/>
          <p:nvPr/>
        </p:nvSpPr>
        <p:spPr>
          <a:xfrm>
            <a:off x="6486840" y="48769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rbage Ou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27"/>
          <p:cNvSpPr/>
          <p:nvPr/>
        </p:nvSpPr>
        <p:spPr>
          <a:xfrm>
            <a:off x="457200" y="586260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t takes quality audio/video to make a good prod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Video Productions are created in three stages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080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-Produc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st - P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bd19706_"/>
          <p:cNvPicPr/>
          <p:nvPr/>
        </p:nvPicPr>
        <p:blipFill>
          <a:blip r:embed="rId1"/>
          <a:stretch/>
        </p:blipFill>
        <p:spPr>
          <a:xfrm>
            <a:off x="7543800" y="4952880"/>
            <a:ext cx="1398600" cy="1447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bd05012_"/>
          <p:cNvPicPr/>
          <p:nvPr/>
        </p:nvPicPr>
        <p:blipFill>
          <a:blip r:embed="rId2"/>
          <a:stretch/>
        </p:blipFill>
        <p:spPr>
          <a:xfrm>
            <a:off x="7086600" y="1523880"/>
            <a:ext cx="156852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amera graphic"/>
          <p:cNvPicPr/>
          <p:nvPr/>
        </p:nvPicPr>
        <p:blipFill>
          <a:blip r:embed="rId3"/>
          <a:stretch/>
        </p:blipFill>
        <p:spPr>
          <a:xfrm>
            <a:off x="7094520" y="2833560"/>
            <a:ext cx="2811600" cy="272916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9">
            <a:hlinkClick r:id="rId4" action="ppaction://hlinksldjump"/>
          </p:cNvPr>
          <p:cNvSpPr/>
          <p:nvPr/>
        </p:nvSpPr>
        <p:spPr>
          <a:xfrm>
            <a:off x="1371600" y="3962520"/>
            <a:ext cx="3962520" cy="304560"/>
          </a:xfrm>
          <a:custGeom>
            <a:avLst/>
            <a:gdLst>
              <a:gd name="textAreaLeft" fmla="*/ 19440 w 3962520"/>
              <a:gd name="textAreaRight" fmla="*/ 3943080 w 39625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80723" h="21600">
                <a:moveTo>
                  <a:pt x="0" y="0"/>
                </a:moveTo>
                <a:lnTo>
                  <a:pt x="280723" y="0"/>
                </a:lnTo>
                <a:lnTo>
                  <a:pt x="280723" y="21600"/>
                </a:lnTo>
                <a:lnTo>
                  <a:pt x="0" y="21600"/>
                </a:lnTo>
                <a:close/>
              </a:path>
              <a:path fill="lightenLess" w="280723" h="21600">
                <a:moveTo>
                  <a:pt x="0" y="0"/>
                </a:moveTo>
                <a:lnTo>
                  <a:pt x="280723" y="0"/>
                </a:lnTo>
                <a:lnTo>
                  <a:pt x="279324" y="1400"/>
                </a:lnTo>
                <a:lnTo>
                  <a:pt x="1400" y="1400"/>
                </a:lnTo>
                <a:close/>
              </a:path>
              <a:path fill="darken" w="280723" h="21600">
                <a:moveTo>
                  <a:pt x="280723" y="0"/>
                </a:moveTo>
                <a:lnTo>
                  <a:pt x="280723" y="21600"/>
                </a:lnTo>
                <a:lnTo>
                  <a:pt x="279324" y="20200"/>
                </a:lnTo>
                <a:lnTo>
                  <a:pt x="279324" y="1400"/>
                </a:lnTo>
                <a:close/>
              </a:path>
              <a:path fill="darkenLess" w="280723" h="21600">
                <a:moveTo>
                  <a:pt x="2807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24" y="20200"/>
                </a:lnTo>
                <a:close/>
              </a:path>
              <a:path fill="lighten" w="2807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9T18:03:40Z</dcterms:created>
  <dc:creator>Henson</dc:creator>
  <dc:description/>
  <dc:language>en-US</dc:language>
  <cp:lastModifiedBy>lmoore</cp:lastModifiedBy>
  <dcterms:modified xsi:type="dcterms:W3CDTF">2009-06-18T01:28:14Z</dcterms:modified>
  <cp:revision>188</cp:revision>
  <dc:subject/>
  <dc:title>Media Production with a Science Flavor</dc:title>
</cp:coreProperties>
</file>